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20.jpeg" ContentType="image/jpeg"/>
  <Override PartName="/ppt/media/image11.wmf" ContentType="image/x-wmf"/>
  <Override PartName="/ppt/media/image17.jpeg" ContentType="image/jpeg"/>
  <Override PartName="/ppt/media/image9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1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19.wmf" ContentType="image/x-wmf"/>
  <Override PartName="/ppt/media/image18.jpeg" ContentType="image/jpeg"/>
  <Override PartName="/ppt/media/image22.jpeg" ContentType="image/jpeg"/>
  <Override PartName="/ppt/media/image1.jpeg" ContentType="image/jpeg"/>
  <Override PartName="/ppt/media/image4.wmf" ContentType="image/x-wmf"/>
  <Override PartName="/ppt/media/image15.jpeg" ContentType="image/jpeg"/>
  <Override PartName="/ppt/media/image3.wmf" ContentType="image/x-wmf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0E33-878B-45C3-85B4-727C10CC9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79B1-C021-4FE2-9F9B-37E3BC4BF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19F0-DC35-4B29-9F91-2F6AD49E5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6DC1-2CE2-419E-BB6E-B3B03E11C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E8DA-0190-460D-916E-84CD2ACE5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E507-25AF-48D1-A917-BF20C1448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A8A4-EBE1-4E45-961D-B97C1170A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DA75-0FD4-4D8E-A4EE-0C2F322D7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FB3B-D441-42B5-9170-A90118BF4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1D6F-9CAA-4CCF-8634-869E28388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601F-E6DD-496E-87E6-1D4AB4CE5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92E3-CDF6-4D04-AB4C-C8170B6ED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AB6B2-9B0C-467D-B711-C0C04F88C9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wmf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4962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0" spc="-1" strike="noStrike">
                <a:solidFill>
                  <a:srgbClr val="ff00ff"/>
                </a:solidFill>
                <a:latin typeface="Franklin Gothic Demi Cond"/>
              </a:rPr>
              <a:t>Mi Verano en Espa</a:t>
            </a:r>
            <a:r>
              <a:rPr b="0" lang="es-ES" sz="10000" spc="-1" strike="noStrike">
                <a:solidFill>
                  <a:srgbClr val="ff00ff"/>
                </a:solidFill>
                <a:latin typeface="Franklin Gothic Demi Cond"/>
                <a:ea typeface="Arial"/>
              </a:rPr>
              <a:t>ñ</a:t>
            </a:r>
            <a:r>
              <a:rPr b="0" lang="es-ES" sz="10000" spc="-1" strike="noStrike">
                <a:solidFill>
                  <a:srgbClr val="ff00ff"/>
                </a:solidFill>
                <a:latin typeface="Franklin Gothic Demi Cond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5981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Arial"/>
              </a:rPr>
              <a:t>Madeline Robert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705720" y="365760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80880" y="3886200"/>
            <a:ext cx="1973520" cy="2209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3733920" y="0"/>
            <a:ext cx="1825560" cy="1224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32 0.02452 0.02378 0.0495 0.03646 0.07356 C 0.04323 0.08605 0.04739 0.10131 0.05399 0.11427 C 0.05625 0.12907 0.06319 0.1337 0.07048 0.14388 C 0.08142 0.15961 0.09184 0.17349 0.10347 0.18806 C 0.10573 0.19083 0.10694 0.19477 0.10937 0.19754 C 0.12083 0.2105 0.13559 0.21859 0.14705 0.23201 C 0.15816 0.2452 0.15451 0.24311 0.16458 0.25699 C 0.17986 0.27804 0.196 0.29632 0.20937 0.31945 C 0.22048 0.33888 0.22864 0.36178 0.23993 0.38075 C 0.24652 0.42794 0.24878 0.48392 0.23402 0.5281 C 0.22968 0.55493 0.21406 0.57622 0.19878 0.5938 C 0.18628 0.60814 0.1934 0.60768 0.1717 0.62202 C 0.1526 0.63474 0.1283 0.64191 0.10694 0.64561 C 0.08524 0.65833 0.05729 0.65556 0.03402 0.65648 C 0.01996 0.65486 0.00573 0.65486 -0.00834 0.65186 C -0.03959 0.64515 -0.07952 0.6197 -0.10712 0.60629 C -0.14063 0.59009 -0.17483 0.57321 -0.20712 0.55308 C -0.23664 0.53481 -0.24063 0.52694 -0.26719 0.50289 C -0.33455 0.44274 -0.24497 0.52833 -0.30834 0.45917 C -0.34948 0.41383 -0.31164 0.46634 -0.34479 0.42007 C -0.34844 0.41498 -0.35226 0.40966 -0.35539 0.40434 C -0.36077 0.39463 -0.37066 0.3745 -0.37066 0.3745 C -0.38629 0.27504 -0.3224 0.20101 -0.26719 0.15035 C -0.24792 0.13231 -0.21545 0.09877 -0.19306 0.08905 C -0.15417 0.07286 -0.11545 0.07309 -0.07535 0.06893 C -0.03542 0.06939 0.00468 0.06939 0.04461 0.07055 C 0.05607 0.07078 0.07882 0.07356 0.07882 0.07356 C 0.08871 0.08003 0.09409 0.08743 0.1 0.10016 C 0.10139 0.1145 0.10486 0.12607 0.1059 0.14087 C 0.10746 0.20263 0.10885 0.24473 0.10816 0.31505 C 0.10798 0.32408 0.10764 0.39324 0.10104 0.42007 C 0.06788 0.55193 -0.06875 0.59241 -0.15886 0.60467 C -0.18351 0.60328 -0.20834 0.60328 -0.23299 0.60027 C -0.24844 0.59842 -0.2632 0.57483 -0.27292 0.56095 C -0.30452 0.51561 -0.32361 0.46773 -0.3342 0.40735 C -0.33594 0.37034 -0.3375 0.34605 -0.3342 0.30395 C -0.33264 0.28521 -0.31632 0.2482 -0.31181 0.23502 C -0.29844 0.19569 -0.28854 0.17811 -0.27066 0.14249 C -0.26459 0.13023 -0.26025 0.11704 -0.25417 0.10478 C -0.23195 0.06176 -0.19011 0.01318 -0.15295 -0.00324 C -0.14063 -0.00879 -0.12709 -0.00787 -0.11424 -0.01111 C -0.08525 -0.00949 -0.05608 -0.00995 -0.02709 -0.00625 C -0.00556 -0.00347 0.0151 0.0074 0.03646 0.01249 C 0.09826 0.06245 0.14739 0.08975 0.17882 0.18019 C 0.18229 0.21674 0.1835 0.21836 0.17882 0.26786 C 0.17708 0.28591 0.15694 0.32801 0.1493 0.34166 C 0.12222 0.38908 0.08229 0.44529 0.03871 0.46541 C 0.03576 0.46657 0.0026 0.4742 0 0.4749 C -0.02466 0.47328 -0.04966 0.47513 -0.07414 0.47027 C -0.09914 0.46518 -0.1474 0.44344 -0.17414 0.42794 C -0.19896 0.41337 -0.22882 0.39949 -0.2507 0.37751 C -0.25886 0.36918 -0.27414 0.35091 -0.27414 0.35091 C -0.27969 0.33749 -0.28507 0.32384 -0.29063 0.3102 C -0.29098 0.30927 -0.29306 0.25746 -0.29306 0.25699 C -0.29063 0.21651 -0.29028 0.18043 -0.27657 0.14388 C -0.24063 0.04811 -0.14931 -0.01365 -0.07188 -0.02823 C -0.05712 -0.03123 -0.04202 -0.03031 -0.02709 -0.0317 C 0.02812 -0.03123 0.0835 -0.03262 0.13871 -0.02985 C 0.14496 -0.02961 0.15052 -0.02476 0.15642 -0.02198 C 0.21302 0.00578 0.25069 0.06338 0.26701 0.13948 C 0.26788 0.1566 0.27135 0.17349 0.2717 0.19083 C 0.27187 0.19986 0.26996 0.20865 0.26944 0.2179 C 0.26805 0.24404 0.26788 0.27018 0.2658 0.29609 C 0.26319 0.32778 0.25139 0.35091 0.23646 0.3745 C 0.20972 0.41637 0.1868 0.44043 0.14461 0.44344 C 0.03194 0.4594 -0.06042 0.41198 -0.16129 0.35577 C -0.20139 0.33333 -0.24358 0.30719 -0.27535 0.26648 C -0.28629 0.25237 -0.30712 0.22253 -0.30712 0.22253 C -0.31077 0.20842 -0.31875 0.18436 -0.31771 0.16747 C -0.31615 0.14087 -0.31441 0.11357 -0.30938 0.08767 C -0.29861 0.03145 -0.22275 -0.04303 -0.18716 -0.06755 C -0.17361 -0.0768 -0.15868 -0.08166 -0.14479 -0.08953 C -0.10521 -0.11196 -0.06979 -0.13648 -0.02709 -0.14736 C -0.00052 -0.1543 0.02604 -0.15476 0.05295 -0.15684 C 0.07222 -0.1543 0.09409 -0.15985 0.11059 -0.14597 C 0.11389 -0.14319 0.1158 -0.13833 0.11875 -0.13486 C 0.14757 -0.10086 0.17152 -0.0613 0.19166 -0.01735 C 0.20104 0.00323 0.20972 0.02428 0.21875 0.04533 C 0.22239 0.05366 0.22934 0.07055 0.22934 0.07055 C 0.23385 0.09299 0.23489 0.1145 0.23767 0.13786 C 0.23611 0.14781 0.23576 0.15822 0.23281 0.16747 C 0.22326 0.19847 0.15607 0.23039 0.1493 0.23502 C 0.12743 0.24959 -0.00955 0.24867 -0.0342 0.24913 C -0.08316 0.24705 -0.13229 0.24566 -0.18125 0.24288 C -0.19462 0.24219 -0.20417 0.23964 -0.21528 0.22877 C -0.22414 0.22021 -0.23073 0.20865 -0.23889 0.1987 C -0.24393 0.18598 -0.24914 0.17256 -0.25417 0.15961 C -0.2566 0.15359 -0.25712 0.12213 -0.25764 0.11427 C -0.25729 0.10363 -0.25799 0.09299 -0.2566 0.08304 C -0.24948 0.03377 -0.20139 0.01156 -0.17292 -0.00625 C -0.1665 -0.01041 -0.16077 -0.01643 -0.15417 -0.02036 C -0.14236 -0.02776 -0.13004 -0.03262 -0.11771 -0.03771 C -0.10643 -0.04234 -0.08351 -0.0502 -0.08351 -0.0502 C -0.06007 -0.04928 -0.03646 -0.0502 -0.01302 -0.04719 C -0.00712 -0.0465 0.01128 -0.02776 0.01406 -0.02522 C 0.03177 -0.01041 0.02291 -0.02221 0.03767 -0.00324 C 0.05868 0.02382 0.04774 0.01411 0.05885 0.02336 C 0.06493 0.03631 0.06093 0.03932 0.05173 0.04533 C 0.02673 0.04371 0.02916 0.04695 0.01406 0.03122 C 0.01354 0.02775 0.00955 0.00462 0.00937 0.00462 C 0.00625 0.003 0.00312 0.00161 0 0 Z">
                                      <p:cBhvr>
                                        <p:cTn id="11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igi"/>
                <a:ea typeface="Arial"/>
              </a:rPr>
              <a:t>¡</a:t>
            </a:r>
            <a:r>
              <a:rPr b="0" lang="en-US" sz="4400" spc="-1" strike="noStrike">
                <a:solidFill>
                  <a:srgbClr val="ff0000"/>
                </a:solidFill>
                <a:latin typeface="Gigi"/>
              </a:rPr>
              <a:t>Hola Se</a:t>
            </a:r>
            <a:r>
              <a:rPr b="0" lang="en-US" sz="4400" spc="-1" strike="noStrike">
                <a:solidFill>
                  <a:srgbClr val="ff0000"/>
                </a:solidFill>
                <a:latin typeface="Gigi"/>
                <a:ea typeface="Arial"/>
              </a:rPr>
              <a:t>ñ</a:t>
            </a:r>
            <a:r>
              <a:rPr b="0" lang="en-US" sz="4400" spc="-1" strike="noStrike">
                <a:solidFill>
                  <a:srgbClr val="ff0000"/>
                </a:solidFill>
                <a:latin typeface="Gigi"/>
              </a:rPr>
              <a:t>ora Rossea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gi"/>
              </a:rPr>
              <a:t>¿Como está usted? Estoy muy Bien. Estoy en Marbella,  España. Yo fuí a La Hacienda restaurante. Deseé visitar el Museo del Bonsai, pero mi madre deseó visitar el </a:t>
            </a:r>
            <a:r>
              <a:rPr b="0" lang="es-ES" sz="3200" spc="-1" strike="noStrike">
                <a:solidFill>
                  <a:srgbClr val="ff0000"/>
                </a:solidFill>
                <a:latin typeface="Gigi"/>
              </a:rPr>
              <a:t>Museo del Grabado Español Contemporáneo. Como aburrid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gi"/>
              </a:rPr>
              <a:t>Afectuosament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gi"/>
              </a:rPr>
              <a:t>Made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181480" y="4648320"/>
            <a:ext cx="2895840" cy="1925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5410080" y="5715000"/>
            <a:ext cx="2589480" cy="933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609480" y="-152280"/>
            <a:ext cx="1130400" cy="16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cccc"/>
                </a:solidFill>
                <a:latin typeface="Curlz MT"/>
              </a:rPr>
              <a:t>Quierida Tiffany,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urlz MT"/>
              </a:rPr>
              <a:t>¿Que pasa, chica? En España, hace sol. Pero en los Estados Unidos, llueve. ¡¡¡HAHAHA!!! Yo fuí a un Centro Commercial y compré muchos zapatos. Perdí mis pantalones en una fiesta muy loc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urlz MT"/>
              </a:rPr>
              <a:t>Abrazo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urlz MT"/>
              </a:rPr>
              <a:t>Made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257800" y="4648320"/>
            <a:ext cx="2184480" cy="20318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248520" y="0"/>
            <a:ext cx="3662280" cy="5875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-762120" y="0"/>
            <a:ext cx="3662640" cy="5875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2743200" y="0"/>
            <a:ext cx="3662280" cy="5875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4952880" y="4419720"/>
            <a:ext cx="24386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be0e3"/>
                </a:solidFill>
                <a:latin typeface="Blackadder ITC"/>
              </a:rPr>
              <a:t>Quierda Sierra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Exterior"/>
          <p:cNvPicPr/>
          <p:nvPr/>
        </p:nvPicPr>
        <p:blipFill>
          <a:blip r:embed="rId1"/>
          <a:stretch/>
        </p:blipFill>
        <p:spPr>
          <a:xfrm rot="20836200">
            <a:off x="5562720" y="3200040"/>
            <a:ext cx="3333600" cy="22194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Exterior"/>
          <p:cNvPicPr/>
          <p:nvPr/>
        </p:nvPicPr>
        <p:blipFill>
          <a:blip r:embed="rId2"/>
          <a:stretch/>
        </p:blipFill>
        <p:spPr>
          <a:xfrm rot="928800">
            <a:off x="0" y="380520"/>
            <a:ext cx="3333600" cy="22194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Exterior"/>
          <p:cNvPicPr/>
          <p:nvPr/>
        </p:nvPicPr>
        <p:blipFill>
          <a:blip r:embed="rId3"/>
          <a:stretch/>
        </p:blipFill>
        <p:spPr>
          <a:xfrm rot="1423200">
            <a:off x="2819160" y="4267080"/>
            <a:ext cx="3333600" cy="2219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Exterior"/>
          <p:cNvPicPr/>
          <p:nvPr/>
        </p:nvPicPr>
        <p:blipFill>
          <a:blip r:embed="rId4"/>
          <a:stretch/>
        </p:blipFill>
        <p:spPr>
          <a:xfrm rot="20351400">
            <a:off x="0" y="3124080"/>
            <a:ext cx="3333600" cy="22194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048120" y="990720"/>
            <a:ext cx="5410080" cy="75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Blackadder ITC"/>
                <a:ea typeface="Arial"/>
              </a:rPr>
              <a:t>¡</a:t>
            </a:r>
            <a:r>
              <a:rPr b="1" lang="en-US" sz="2800" spc="-1" strike="noStrike">
                <a:solidFill>
                  <a:srgbClr val="bbe0e3"/>
                </a:solidFill>
                <a:latin typeface="Blackadder ITC"/>
              </a:rPr>
              <a:t>Hola Sierra! </a:t>
            </a:r>
            <a:r>
              <a:rPr b="1" lang="en-US" sz="2800" spc="-1" strike="noStrike">
                <a:solidFill>
                  <a:srgbClr val="bbe0e3"/>
                </a:solidFill>
                <a:latin typeface="Blackadder ITC"/>
                <a:ea typeface="Arial"/>
              </a:rPr>
              <a:t>¿</a:t>
            </a:r>
            <a:r>
              <a:rPr b="1" lang="en-US" sz="2800" spc="-1" strike="noStrike">
                <a:solidFill>
                  <a:srgbClr val="bbe0e3"/>
                </a:solidFill>
                <a:latin typeface="Blackadder ITC"/>
              </a:rPr>
              <a:t>Como estás? Ahora, estoy en Marbella, Espa</a:t>
            </a:r>
            <a:r>
              <a:rPr b="1" lang="en-US" sz="2800" spc="-1" strike="noStrike">
                <a:solidFill>
                  <a:srgbClr val="bbe0e3"/>
                </a:solidFill>
                <a:latin typeface="Blackadder ITC"/>
                <a:ea typeface="Arial"/>
              </a:rPr>
              <a:t>ñ</a:t>
            </a:r>
            <a:r>
              <a:rPr b="1" lang="en-US" sz="2800" spc="-1" strike="noStrike">
                <a:solidFill>
                  <a:srgbClr val="bbe0e3"/>
                </a:solidFill>
                <a:latin typeface="Blackadder ITC"/>
              </a:rPr>
              <a:t>a. Hace sol , y hace calor. De ninguna manera hay nubes. Yo fu</a:t>
            </a:r>
            <a:r>
              <a:rPr b="1" lang="en-US" sz="2800" spc="-1" strike="noStrike">
                <a:solidFill>
                  <a:srgbClr val="bbe0e3"/>
                </a:solidFill>
                <a:latin typeface="Blackadder ITC"/>
                <a:ea typeface="Arial"/>
              </a:rPr>
              <a:t>í a un restaurante. Antes del restaurante, yo navegué. Aquí hay fotos de mi balnareo, el Don Juan hot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Blackadder ITC"/>
                <a:ea typeface="Arial"/>
              </a:rPr>
              <a:t>Besos y abrazos 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Blackadder ITC"/>
                <a:ea typeface="Arial"/>
              </a:rPr>
              <a:t>     </a:t>
            </a:r>
            <a:r>
              <a:rPr b="1" lang="en-US" sz="2800" spc="-1" strike="noStrike">
                <a:solidFill>
                  <a:srgbClr val="bbe0e3"/>
                </a:solidFill>
                <a:latin typeface="Blackadder ITC"/>
                <a:ea typeface="Arial"/>
              </a:rPr>
              <a:t>Made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Monotype Corsiva"/>
              </a:rPr>
              <a:t>Querido Enrique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Monotype Corsiva"/>
              </a:rPr>
              <a:t>Hoy, yo fu</a:t>
            </a:r>
            <a:r>
              <a:rPr b="1" lang="en-US" sz="3200" spc="-1" strike="noStrike">
                <a:solidFill>
                  <a:srgbClr val="0000ff"/>
                </a:solidFill>
                <a:latin typeface="Monotype Corsiva"/>
                <a:ea typeface="Arial"/>
              </a:rPr>
              <a:t>í a la casa de mi primo, Pepe. Pepe tiene una playa. Hoy, yo nadé en su playa. Antes de nadé, yo tiré un bebe en el mar. Quiero aprendi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onotype Corsiva"/>
                <a:ea typeface="Arial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Monotype Corsiva"/>
                <a:ea typeface="Arial"/>
              </a:rPr>
              <a:t>Alem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onotype Corsiva"/>
                <a:ea typeface="Arial"/>
              </a:rPr>
              <a:t>  </a:t>
            </a:r>
            <a:r>
              <a:rPr b="1" lang="en-US" sz="3200" spc="-1" strike="noStrike">
                <a:solidFill>
                  <a:srgbClr val="0000ff"/>
                </a:solidFill>
                <a:latin typeface="Monotype Corsiva"/>
                <a:ea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Monotype Corsiva"/>
                <a:ea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Monotype Corsiva"/>
                <a:ea typeface="Arial"/>
              </a:rPr>
              <a:t>Con todo mi cariñ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onotype Corsiva"/>
                <a:ea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Monotype Corsiva"/>
                <a:ea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Monotype Corsiva"/>
                <a:ea typeface="Arial"/>
              </a:rPr>
              <a:t>Made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124080" y="5013360"/>
            <a:ext cx="2772000" cy="1844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5867280" y="3733920"/>
            <a:ext cx="2994120" cy="23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ff"/>
                </a:solidFill>
                <a:latin typeface="Script MT Bold"/>
              </a:rPr>
              <a:t>Quierdos Sarah y Declan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Arial"/>
                <a:ea typeface="Arial"/>
              </a:rPr>
              <a:t>   </a:t>
            </a:r>
            <a:r>
              <a:rPr b="1" lang="en-US" sz="3200" spc="-1" strike="noStrike">
                <a:solidFill>
                  <a:srgbClr val="6600ff"/>
                </a:solidFill>
                <a:latin typeface="Script MT Bold"/>
                <a:ea typeface="Arial"/>
              </a:rPr>
              <a:t>¡</a:t>
            </a:r>
            <a:r>
              <a:rPr b="1" lang="en-US" sz="3200" spc="-1" strike="noStrike">
                <a:solidFill>
                  <a:srgbClr val="6600ff"/>
                </a:solidFill>
                <a:latin typeface="Script MT Bold"/>
              </a:rPr>
              <a:t>Hola Mijos! Ayer, yo fu</a:t>
            </a:r>
            <a:r>
              <a:rPr b="1" lang="en-US" sz="3200" spc="-1" strike="noStrike">
                <a:solidFill>
                  <a:srgbClr val="6600ff"/>
                </a:solidFill>
                <a:latin typeface="Script MT Bold"/>
                <a:ea typeface="Arial"/>
              </a:rPr>
              <a:t>í a la playa y tiré un bebe en el mar. Mañana, voy a comprar un traje de baño para Declan. Hoy, un delfín y yo nadamos en el mar. Miramos al muchos pes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Script MT Bold"/>
                <a:ea typeface="Arial"/>
              </a:rPr>
              <a:t>	</a:t>
            </a:r>
            <a:r>
              <a:rPr b="1" lang="en-US" sz="3200" spc="-1" strike="noStrike">
                <a:solidFill>
                  <a:srgbClr val="6600ff"/>
                </a:solidFill>
                <a:latin typeface="Script MT Bold"/>
                <a:ea typeface="Arial"/>
              </a:rPr>
              <a:t>	</a:t>
            </a:r>
            <a:r>
              <a:rPr b="1" lang="en-US" sz="3200" spc="-1" strike="noStrike">
                <a:solidFill>
                  <a:srgbClr val="6600ff"/>
                </a:solidFill>
                <a:latin typeface="Script MT Bold"/>
                <a:ea typeface="Arial"/>
              </a:rPr>
              <a:t>Besos y abrazo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Script MT Bold"/>
                <a:ea typeface="Arial"/>
              </a:rPr>
              <a:t>	</a:t>
            </a:r>
            <a:r>
              <a:rPr b="1" lang="en-US" sz="3200" spc="-1" strike="noStrike">
                <a:solidFill>
                  <a:srgbClr val="6600ff"/>
                </a:solidFill>
                <a:latin typeface="Script MT Bold"/>
                <a:ea typeface="Arial"/>
              </a:rPr>
              <a:t>	</a:t>
            </a:r>
            <a:r>
              <a:rPr b="1" lang="en-US" sz="3200" spc="-1" strike="noStrike">
                <a:solidFill>
                  <a:srgbClr val="6600ff"/>
                </a:solidFill>
                <a:latin typeface="Script MT Bold"/>
                <a:ea typeface="Arial"/>
              </a:rPr>
              <a:t>	</a:t>
            </a:r>
            <a:r>
              <a:rPr b="1" lang="en-US" sz="3200" spc="-1" strike="noStrike">
                <a:solidFill>
                  <a:srgbClr val="6600ff"/>
                </a:solidFill>
                <a:latin typeface="Script MT Bold"/>
                <a:ea typeface="Arial"/>
              </a:rPr>
              <a:t>Made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838920" y="4986360"/>
            <a:ext cx="2305080" cy="18716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452600" cy="10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5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0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8T13:57:23Z</dcterms:created>
  <dc:creator>robertsonmad</dc:creator>
  <dc:description/>
  <dc:language>en-US</dc:language>
  <cp:lastModifiedBy>erousseau</cp:lastModifiedBy>
  <dcterms:modified xsi:type="dcterms:W3CDTF">2011-12-02T19:24:30Z</dcterms:modified>
  <cp:revision>7</cp:revision>
  <dc:subject/>
  <dc:title>Mi Verano en España </dc:title>
</cp:coreProperties>
</file>